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50BF-0891-40D9-BB22-0CC93CEC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F6D2-53B7-458E-96D7-0848BB5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45A1-9E20-4358-AC21-471E8489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16B2-D862-498E-8B06-C4ACDF02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D000-A29F-49FE-B4D0-07AEB9DC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A355-B269-4B8A-8520-6EFF4226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9EF1-B496-4A9C-BEF5-8C339F33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67EC-DE3B-4BCF-8CDF-4372C137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24F4-15F4-4BEA-89B7-18E2CB25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67A0-3D13-4A2A-B2F3-2C524ADD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6F6D-D8A2-48B7-A6F7-3F37EBC8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F05C-190B-4460-AE4E-5F7110E9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2D88-85CF-4C99-8498-6CA78FB9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456C-28C5-4821-B810-55CE4E61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22D9-2592-413A-931C-34087F8A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C43D-2634-40E2-AAC6-AECF0F5E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1110-6744-4D38-9E35-8E8B0429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C383-154B-44A2-ACC4-57934ABB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078E-10C0-40CD-BCAF-17C94B5E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9A0B-7FA9-4123-AF3D-1B4054D1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9722-7534-40C7-B4CA-0E9DA32E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9665-E6FD-48EE-9619-AB7C50E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72C2-57AC-480A-9FE8-D4F9AF2F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9399-6BC7-4515-9DB1-3C4E0D0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731C-8DCA-46C4-8E9F-AC100E3C1B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020E-7587-422D-96FE-25DBAC3727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ettering.edu/~drussell/Demos/waves/wavemotion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doppler.html" TargetMode="External"/><Relationship Id="rId2" Type="http://schemas.openxmlformats.org/officeDocument/2006/relationships/hyperlink" Target="http://www.walter-fendt.de/ph11e/dopplereff.htm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rs.umn.edu/~sboyd/class1061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495680" y="464832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ti Andresk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 La Salle H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838080"/>
            <a:ext cx="76964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u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9 0.011 0.08659 0.028 0.11323 C 0.028 0.11456 0.055 0.15053 0.055 0.1492 C 0.07 0.16918 0.079 0.19715 0.079 0.22646 C 0.079 0.28507 0.044 0.33169 0 0.33302 C -0.044 0.33169 -0.079 0.28507 -0.079 0.22646 C -0.079 0.19715 -0.07 0.16918 -0.055 0.1492 C -0.055 0.15053 -0.028 0.11456 -0.028 0.11323 C -0.011 0.08659 -0.001 0.04529 0 0 Z">
                                      <p:cBhvr>
                                        <p:cTn id="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nsity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4920" y="1219320"/>
          <a:ext cx="8610480" cy="5468760"/>
        </p:xfrm>
        <a:graphic>
          <a:graphicData uri="http://schemas.openxmlformats.org/drawingml/2006/table">
            <a:tbl>
              <a:tblPr/>
              <a:tblGrid>
                <a:gridCol w="68580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Symbol"/>
                          <a:ea typeface="Symbol"/>
                        </a:rPr>
                        <a:t></a:t>
                      </a: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d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arby jet airpla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ckhammer; Machine gu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ren, Rock Concert, Threshold of p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way, Power mower, Fire Engine at 3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y Traff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cuum Cleaner, Loud Lectur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ur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ormal Convers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sper, Libr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tling Lea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reshold of Hear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lection and Ech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und can reflect without changing shape; known as “echo” if it hits a hard surface that is large and fairly smooth and “far away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f the direct and reflected waves arrive &gt;0.1 s apart, they are perceived 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2 distinct signals and therefore are echo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f they arrive in &lt;0.1 s, the signals merge into blurred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verberation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and there is no 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holocation is used by bats, dolphins, whales, some camer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there be an echo in a phone booth or small ro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CHOLOC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81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So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und 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N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avigation 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nd 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R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anging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s echoes – reflecting signals return to meter and get interpreted as dep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524040" cy="5438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553080" y="2666880"/>
            <a:ext cx="7632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705720" y="26668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und Frequ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981080"/>
          <a:ext cx="8229240" cy="4114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raso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20 H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di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Hz – 20,000 H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so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20,000 H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tanding wave in a pipe can be represented by 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ine 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fundamental overtone (or first harmonic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lowest frequency at which a closed pipe will reso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armonics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ultiples of the funda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wo Types of Colum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) CL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n is closed at one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amental resonance occurs at each odd-numbered ¼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4; 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4, 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4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a node at the closed end &amp; antinode at the open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) OPEN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n is open at both 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amental resonance occurs at each ½ wavelength 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2, 2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2, 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2, 4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2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antinodes at each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383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510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peed of Sound in Tubes (LAB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5051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e: What is the length of a resonance tube, closed at one end, that will best reinforce the sound of a 256 vibration/s tuning fork when the air temp is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SWER:  Since it’s 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osed tub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e know that resonance occurs every ¼ wavelength.  We have to find the wavelength 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at the given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 = 331 m/s + (0.59 m/s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;   v = 337 m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v / f;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337 / 256;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.32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/ 4;    1.32 / 4;    L = 0.33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refers to the various parts of a 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if 2 waves are in the same parts of their respective cycles at the same time, they are said to be “in phase”; if they are ½-cycle apart, they are 18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ut of phase (this is the maxim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coustic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“the science of sou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ou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must have a medium in which to travel;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the denser the particles, the faster sound travels. Cannot travel in a vacuum;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no particles available to collide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Tell this to the movie industry. 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kettering.edu/~drussell/Demos/waves/wavemotion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83808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or Ou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4920" y="1981080"/>
          <a:ext cx="3352680" cy="2800440"/>
        </p:xfrm>
        <a:graphic>
          <a:graphicData uri="http://schemas.openxmlformats.org/drawingml/2006/table">
            <a:tbl>
              <a:tblPr/>
              <a:tblGrid>
                <a:gridCol w="914400"/>
                <a:gridCol w="243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&amp;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&amp;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 &amp;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&amp;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&amp;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 &amp;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 &amp;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14800" y="533520"/>
            <a:ext cx="4495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per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when 2 sound waves combine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ccurs. IN PHASE combinations reinforce each other (constructive interference). Resulting amplitudes are greater than individ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when 2 sound waves combine 18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ut of phase, they tend to cancel each other (destructive interfer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F THE WAVES ARE ALTERNATELY IN and OUT OF PHASE: this is called a “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.  The frequency of the occurrence of beats is numerically equal to the difference b/w the f’s of the combining waves.  A 256 Hz tuning fork and a 260 Hz tuning fork sounding together would produce 4 beats per secon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If the beat frequency is smaller than about 10 Hz, the ear can distinguish the vibrations as separate pulses, and the observer senses a throbbing effect. &gt; 10 Hz it is observed as a third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ympathetic Vibration and Re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 elastic object has a “natural frequency” of vibration [Note: ELASTIC refers to anything which “gives” – even a little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such an object is struck by pulses at its “natural frequency”, it will begin to vib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pulses reinforce others; amplitude of vibration increases; phenomenon is called “sympathetic vibration” or “resona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 Resonator Box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uning fork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ach of equal f’s, will vibrate if just one is stru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henomenon can occur in an air column.  Strike a tuning fork, place it in a container of water; when the intensity of the sound is at maximum, the air column is in resonance with the tuning f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2971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ppler Effect Conc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816440" y="457200"/>
            <a:ext cx="4051440" cy="571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2057400"/>
            <a:ext cx="44956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urce (s) sends a signal with a given frequency (that’s consta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the source nears you, the waves create a sound that has a pitch that is higher, since it is as if the wavelengths are compressed ( source partly “catches up with” the sound it crea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03848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1583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1583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ppler Effect Conce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colorado.edu/physics/2000/applets/doppler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walter-fendt.de/ph11e/dopplereff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ppler Effect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ORMUL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=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(v + v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) / (v - v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 = frequency in 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= velocity in m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det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=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v + 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 / (v-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371600"/>
          <a:ext cx="8686800" cy="4876920"/>
        </p:xfrm>
        <a:graphic>
          <a:graphicData uri="http://schemas.openxmlformats.org/drawingml/2006/table">
            <a:tbl>
              <a:tblPr/>
              <a:tblGrid>
                <a:gridCol w="1600200"/>
                <a:gridCol w="4419360"/>
                <a:gridCol w="2667240"/>
              </a:tblGrid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f th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ves towards th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en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f th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ves past th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en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hear:  20 Hz – 16,000 Hz, most sensitive: 1000 – 5000 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age 70: most people hear nothing &gt;8000 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 exposure to 100 dB or greater can produce permanent damage (Many rock musicians have hearing losses of &gt;4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inni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 condition in which, 24 hours a day, a sound like a high-frequency tuning fork is he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ysics of Mus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n Mersenne &amp; Galileo (~1600) first connected pitch with frequency of vib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, stringed instruments are at least 3000 years 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ical scales are based on the work of Pythagoras (the Greek Mathematician) in the 6th century BC.  He “noted” (haha) that when 2 strings had lengths in the ratio of small whole numbers (ie: 2:1; 3:2; 4:3) pleasing sounds resulted when the strings were plucked toge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requency ratio of 2:1 differs by 1 “octave” – ie: 220 Hz to 440 Hz to 880 Hz are octaves apart  (frequency = pit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und Character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oudne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ie: loud, intense vs. soft, si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itc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pitch vs. low pitch; (bass vs. sopran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imbre or “color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warm, soft vs. shrill, pier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ur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length of sound or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al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sharp” note is a higher frequency; a “flat” note is lower 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major third”:   freq. ratio is 5:4 (ie: C[262 Hz] and E[327 Hz]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major fourth”: freq. ratio is 4:3 (C &amp; F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major fifth”: freq. ratio is 3:2 (C &amp; 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chord”: when several pitches are played together; can be pleasant (consonance) or unpleasant (disson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udspeaker – has a cone which vibrates due to elec. sig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ice – vocal cords (membranes) in throat are like vibrating strings; muscles control tension and therefore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al Instr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cussion Instruments (Drums, Gongs, Cymba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 surface (rounded) vib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ss Instruments (Trumpet, Trombone, Tub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ps of performer vib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ed Instruments (Clarinet, Sax, Ob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 wooden strip (reed) vibrates as air is blown a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 Instruments (Piano, Guitar, Viol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 or string is set into vibration by striking,   plucking or by fr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 (column) (flute, recorder, organ pipe, whist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 blown across opening in p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Demos – Sound (a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116240"/>
        </p:xfrm>
        <a:graphic>
          <a:graphicData uri="http://schemas.openxmlformats.org/drawingml/2006/table">
            <a:tbl>
              <a:tblPr/>
              <a:tblGrid>
                <a:gridCol w="2590920"/>
                <a:gridCol w="289548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Dem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Observ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Physics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 Pip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ar distance dev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 Whis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pe Whis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Demos – Sound (b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2590920"/>
                <a:gridCol w="289548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Dem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Observ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Physics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bi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net Resour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mrs.umn.edu/~sboyd/class1061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s of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24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. </a:t>
            </a: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dispersiv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n separate frequencies on the basis of differences in velocity; such as water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 speed of sound increases with the stiffness of the material, and decreases with the density. (water’s D changes with depth and temp and concentration; 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sal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1500 m/s where 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fres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435 m/s (approximate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. </a:t>
            </a: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non-dispersive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oes not separate frequencies (uniform)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uch as air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und speed is independent of frequency (all frequencies travel at same spe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eed of S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ends on pressure and temperature of the med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@ 0</a:t>
            </a:r>
            <a:r>
              <a:rPr b="1" lang="en-US" sz="2800" spc="-1" strike="noStrike" baseline="30000">
                <a:solidFill>
                  <a:srgbClr val="ffcc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 = 331 m/s; the speed of sound </a:t>
            </a: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increases 0.59 m/s/</a:t>
            </a:r>
            <a:r>
              <a:rPr b="1" i="1" lang="en-US" sz="2800" spc="-1" strike="noStrike" u="sng" baseline="30000">
                <a:solidFill>
                  <a:srgbClr val="ffcc00"/>
                </a:solidFill>
                <a:uFillTx/>
                <a:latin typeface="Arial"/>
              </a:rPr>
              <a:t>o</a:t>
            </a: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257800" y="1981080"/>
          <a:ext cx="3429000" cy="411444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edium (at 21</a:t>
                      </a:r>
                      <a:r>
                        <a:rPr b="1" i="1" lang="en-US" sz="24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ed (m/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l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ch Number (M or M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io of speed to the speed of 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less numb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d for Ernst Mach, the Austrian Physicist and philoso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191120" y="1981080"/>
          <a:ext cx="4495320" cy="4114800"/>
        </p:xfrm>
        <a:graphic>
          <a:graphicData uri="http://schemas.openxmlformats.org/drawingml/2006/table">
            <a:tbl>
              <a:tblPr/>
              <a:tblGrid>
                <a:gridCol w="2247840"/>
                <a:gridCol w="224748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s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&lt;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=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s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&gt;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s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 &lt; M &lt; 1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ers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&gt;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nic Boo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roduced by aircraft traveling at supersonic (above the speed of sound) spee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lane “outruns” the waves it produces, they pile up, and the crests superimpose (constructively interfere) = “boo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91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7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udness of S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oudness is measured in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decibels (dB) and i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ogarithmic (every 10 dB is a doubling of the loudness befo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ut we can’t sense that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uman ear is EXTREMELY SENSITIVE pressure variations; the ear “drum” vibrates due to sound; the ear bones changes mechanical signals to electrical signals &amp; on to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plitude of sound that causes pain is one TRILLION times (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larger than the smallest sound that can be detected by the human 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udness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B = 10 log (</a:t>
            </a:r>
            <a:r>
              <a:rPr b="1" lang="en-US" sz="2000" spc="-1" strike="noStrike">
                <a:solidFill>
                  <a:srgbClr val="ffcc00"/>
                </a:solidFill>
                <a:latin typeface="바탕"/>
              </a:rPr>
              <a:t>I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/ 10-12 W/m</a:t>
            </a:r>
            <a:r>
              <a:rPr b="1" lang="en-US" sz="20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udest possible sound = 1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est perceptible sound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decibel = 1/10 bel (Alexander Graham B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 decibel measures the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relation between two s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, not an amount of 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 dB =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      30 dB =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        60 dB =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    110 dB =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21:08:01Z</dcterms:created>
  <dc:creator>andreskim</dc:creator>
  <dc:description/>
  <dc:language>en-US</dc:language>
  <cp:lastModifiedBy>andreskim</cp:lastModifiedBy>
  <dcterms:modified xsi:type="dcterms:W3CDTF">2005-01-21T18:11:26Z</dcterms:modified>
  <cp:revision>141</cp:revision>
  <dc:subject/>
  <dc:title>Electricity</dc:title>
</cp:coreProperties>
</file>